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766C-0279-4D3E-8896-292D0D3830D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DD94-538B-453D-B98D-E7AE0DD5544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diagnostic Assessment of student understanding of st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6D3C-85AF-40BA-A2D4-1C6412CA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05E8-1615-4A51-897B-C3093F8E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6E70-1ED2-43CD-AE55-051C079E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F16D-206A-428A-A31D-192EE90E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8CFA-9D8D-425B-AAD3-F591BDFB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BAE0-386D-4F2A-8635-4A22BB9F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8852-730D-49D3-AA32-864ED16A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749A-6FE3-4583-9FA0-1A674930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FEB6-4867-4E0F-BE81-40A21B93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1E18-25DC-4419-9B5D-F1A9B211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0CA0-13F1-45E8-8EE2-A582200F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C23-6E96-4961-8B85-94299A1F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609E-7C45-47F6-91CA-60372A3D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167C-9748-4A97-9432-5CBC6404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06AF-23C7-4638-BCB9-F51CAC0F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91E5-295F-4DE2-89FF-ADE3006C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028C-220E-4AE4-A1A4-7BD6E7EC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01D6C-D0FD-4237-80A0-5F1FC2F1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EF52D-193E-483A-BF85-26C8CE68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5923E-3C3E-48DF-960A-B84348C0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BD02D-65A4-4B78-80F2-848E508D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E5237-AD62-434F-88D0-8A7C01B6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6F76-2035-46BB-990A-7B2BC6D1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99929-FB5B-45F0-B4AC-4A95BCED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660C3-0617-47B4-AFD5-40199961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DA90D-ED14-49E5-9B04-DDFA16C4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7BB61-C7B5-4AF4-9A20-AFE8430D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F9690-E2F2-4E6F-AFF1-5509A898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A0677-F5F0-40C0-A40F-8EA627ED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A14CA-79F4-4D67-88AE-A12A1EAE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606B7-08D5-4E35-ADC5-DDE739DB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D577A-2C0E-4E7E-9621-0B4591B7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821ED-CAF3-4996-9347-E01257DB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FBD-128D-45FD-8A3C-75127475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DDF1B-56D1-43AD-8F2E-DBC5F8C2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FADDD-8378-4CFE-918A-B0277000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75AA7-E256-46C1-97F6-2CB880CC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D6E57-E326-4A7E-B0F7-6B565DDC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505CD-2864-4136-8063-DC06ABC2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F873A-0104-4C4E-A6F1-C4A9CC91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1A0E3-6E09-49A4-A834-28A01929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6620E-A267-4AF0-AB87-2396581D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A4C22-1A99-4207-9706-D69B8BA3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A0E50-81DE-4D83-B2DF-7827FE32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FFC-F037-4684-BF58-D73169FC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83256-6AD6-4E8F-AE80-A8242998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FBBB6-3B04-4646-A63B-10C86647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59C1F-D102-4FA1-87E1-B1058295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DECC0-D4DF-4B4F-BFE2-879E2269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5BA0E-4BD4-47E5-8444-91AF27EB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C78A7-6AA1-4D28-82EB-F88C239F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E6760-31B3-47DA-8254-92AA1AD1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38C00-8A99-407B-9E07-76C12F3D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01A4F-35B0-4EEA-91E7-397092C4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B85AA-63A2-4202-AA5C-B7411B3E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5E3F-2DE9-4317-B724-29867880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38E73-00A5-4DF4-83DE-57371198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06F0D-2F2C-4BE1-94AB-091CADD2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B84E4-68CF-4E47-9F24-AA5713F6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91FAE-3F53-4B80-B5F5-E76543C6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E267F-D41A-4A8C-97CF-654604D2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3DF42-1D4E-410D-8F26-04007736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10D32-5E19-4447-A36C-CDEB110A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01BBF-1DF7-44C8-931D-617E25D3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5F4F8-AEB2-4E40-AE0E-DBB54E5B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4EE83-0048-483B-A1A6-85C34B6C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BF8-2FDC-425B-BD70-C93B5B51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3BE05-114F-4395-9012-223BB09A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C3881-55F2-4BD5-8DCD-4E77A48F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ACE6F-B348-47D5-8109-9BE91CE9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DCEA4-DEB4-480C-B8AA-68121528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ED4C0-FE0D-4BFB-94CC-0CB67E7F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A76BC-A4F7-4244-A4CF-D0D714CC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C8E7B-6542-4046-87D8-B445A913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AAC0C-5AA3-4ECA-A685-F04B70FE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9F22C-8D69-47EF-A501-43DDA427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33131-5003-4C52-8432-4E3E55AD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637-00F9-4258-8BFB-B97C4CD4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EA9A4-13BA-45DE-9D76-CF5E3BCF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F9D71-654D-40C0-B387-254751D4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4DCFD-6349-4B26-AABD-64EC9389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E5B62-BA47-4EBA-BF46-2DD26D35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EF3A2-52FF-4FED-9608-22FBAC44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A76-2A43-4BE1-AA9C-0843D1B4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DEAB-D329-47F8-AC10-9301D3793CB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D5B7-1F07-476F-934E-2B10C479292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1F43-EE60-42CA-A08F-64007F9B30A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D6D4-A90F-4D07-809C-B1F74E93AA2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4281-E352-4BC8-B654-7E24839C34F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34F3-A5F8-4EE2-98C0-724CBEFE447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CBE2-CCBE-4CF2-B16C-7473A6BA651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TOICHIOMETR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142640" y="3885840"/>
            <a:ext cx="6629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ndara"/>
              </a:rPr>
              <a:t>OISE Senior Chemistry AQ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ndara"/>
              </a:rPr>
              <a:t>Concept Presentation – November 9, 2011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ndara"/>
              </a:rPr>
              <a:t>Presented by Wendy Loui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Picture 5" descr="C:\Profiles\ICW087-PAF.ICICLE.062\Local Settings\Temporary Internet Files\Content.IE5\5Z9UOFNT\MP900399578[1].jpg"/>
          <p:cNvPicPr/>
          <p:nvPr/>
        </p:nvPicPr>
        <p:blipFill>
          <a:blip r:embed="rId1"/>
          <a:stretch/>
        </p:blipFill>
        <p:spPr>
          <a:xfrm>
            <a:off x="2895480" y="2268360"/>
            <a:ext cx="1096920" cy="1484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C:\Profiles\ICW087-PAF.ICICLE.062\Local Settings\Temporary Internet Files\Content.IE5\5Z9UOFNT\MC900434868[1].png"/>
          <p:cNvPicPr/>
          <p:nvPr/>
        </p:nvPicPr>
        <p:blipFill>
          <a:blip r:embed="rId2"/>
          <a:stretch/>
        </p:blipFill>
        <p:spPr>
          <a:xfrm>
            <a:off x="4191120" y="1981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871560" y="1981080"/>
            <a:ext cx="7408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ndara"/>
              </a:rPr>
              <a:t>Step 3: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Use the coefficients in the balanced equation to set up the appropriate mole ratio and multiply to calculate moles of the desired reactant or product.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Use the balanced equation to set up a molar ratio:           </a:t>
            </a:r>
            <a:r>
              <a:rPr b="0" lang="en-CA" sz="1100" spc="-1" strike="noStrike" u="sng">
                <a:solidFill>
                  <a:srgbClr val="073e87"/>
                </a:solidFill>
                <a:uFillTx/>
                <a:latin typeface="Candara"/>
              </a:rPr>
              <a:t>1 mole of </a:t>
            </a:r>
            <a:r>
              <a:rPr b="0" lang="en-CA" sz="1100" spc="-1" strike="noStrike" u="sng">
                <a:solidFill>
                  <a:srgbClr val="000000"/>
                </a:solidFill>
                <a:uFillTx/>
                <a:latin typeface="Candara"/>
              </a:rPr>
              <a:t>N</a:t>
            </a:r>
            <a:r>
              <a:rPr b="0" lang="en-CA" sz="1100" spc="-1" strike="noStrike" u="sng" baseline="-25000">
                <a:solidFill>
                  <a:srgbClr val="000000"/>
                </a:solidFill>
                <a:uFillTx/>
                <a:latin typeface="Candara"/>
              </a:rPr>
              <a:t>2 </a:t>
            </a:r>
            <a:r>
              <a:rPr b="0" lang="en-CA" sz="1100" spc="-1" strike="noStrike" u="sng">
                <a:solidFill>
                  <a:srgbClr val="000000"/>
                </a:solidFill>
                <a:uFillTx/>
                <a:latin typeface="Candara"/>
              </a:rPr>
              <a:t>(g)     </a:t>
            </a: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=  </a:t>
            </a:r>
            <a:r>
              <a:rPr b="0" lang="en-CA" sz="1100" spc="-1" strike="noStrike" u="sng">
                <a:solidFill>
                  <a:srgbClr val="073e87"/>
                </a:solidFill>
                <a:uFillTx/>
                <a:latin typeface="Candara"/>
              </a:rPr>
              <a:t>2 moles of </a:t>
            </a:r>
            <a:r>
              <a:rPr b="0" lang="en-CA" sz="1100" spc="-1" strike="noStrike" u="sng">
                <a:solidFill>
                  <a:srgbClr val="000000"/>
                </a:solidFill>
                <a:uFillTx/>
                <a:latin typeface="Candara"/>
              </a:rPr>
              <a:t>NH</a:t>
            </a:r>
            <a:r>
              <a:rPr b="0" lang="en-CA" sz="1100" spc="-1" strike="noStrike" u="sng" baseline="-25000">
                <a:solidFill>
                  <a:srgbClr val="000000"/>
                </a:solidFill>
                <a:uFillTx/>
                <a:latin typeface="Candara"/>
              </a:rPr>
              <a:t>3 </a:t>
            </a:r>
            <a:r>
              <a:rPr b="0" lang="en-CA" sz="1100" spc="-1" strike="noStrike" u="sng">
                <a:solidFill>
                  <a:srgbClr val="000000"/>
                </a:solidFill>
                <a:uFillTx/>
                <a:latin typeface="Candara"/>
              </a:rPr>
              <a:t>(g)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</a:t>
            </a: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0.133 moles                     x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  </a:t>
            </a: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x   =  0.266 moles of ammonia produced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ndara"/>
              </a:rPr>
              <a:t>Step 4: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Convert moles of the desired product to mass required.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Calculate the mass of ammonia in 0.266 moles of NH</a:t>
            </a:r>
            <a:r>
              <a:rPr b="0" lang="en-CA" sz="1100" spc="-1" strike="noStrike" baseline="-25000">
                <a:solidFill>
                  <a:srgbClr val="000000"/>
                </a:solidFill>
                <a:latin typeface="Candara"/>
              </a:rPr>
              <a:t>3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(g).  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The atomic mass of NH</a:t>
            </a:r>
            <a:r>
              <a:rPr b="0" lang="en-CA" sz="1100" spc="-1" strike="noStrike" baseline="-25000">
                <a:solidFill>
                  <a:srgbClr val="000000"/>
                </a:solidFill>
                <a:latin typeface="Candara"/>
              </a:rPr>
              <a:t>3 </a:t>
            </a: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= 14.007 u + 3 (1.008 u)  = 17.031 u  = 17.031 g / mol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Set up a ratio to convert moles to mass:                            </a:t>
            </a:r>
            <a:r>
              <a:rPr b="0" lang="en-CA" sz="1100" spc="-1" strike="noStrike" u="sng">
                <a:solidFill>
                  <a:srgbClr val="073e87"/>
                </a:solidFill>
                <a:uFillTx/>
                <a:latin typeface="Candara"/>
              </a:rPr>
              <a:t>17.013 g </a:t>
            </a: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     =       </a:t>
            </a:r>
            <a:r>
              <a:rPr b="0" lang="en-CA" sz="1100" spc="-1" strike="noStrike" u="sng">
                <a:solidFill>
                  <a:srgbClr val="073e87"/>
                </a:solidFill>
                <a:uFillTx/>
                <a:latin typeface="Candara"/>
              </a:rPr>
              <a:t>x  grams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                                                  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1 mol                   0.266 moles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       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x  =  4.53 g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ndara"/>
              </a:rPr>
              <a:t>Concluding Statement: 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From 3.75 g of nitrogen, 4.53 g of ammonia are produced.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andara"/>
              </a:rPr>
              <a:t>Lesson 2: </a:t>
            </a:r>
            <a:r>
              <a:rPr b="0" lang="en-CA" sz="3600" spc="-1" strike="noStrike">
                <a:solidFill>
                  <a:srgbClr val="073e87"/>
                </a:solidFill>
                <a:latin typeface="Candara"/>
              </a:rPr>
              <a:t>Using Molar Masses in Stoichiometric Problems cont’d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ndara"/>
              </a:rPr>
              <a:t>Student Demonstration: Explaining the Quantitative Relationships Expressed in Balanced Equations</a:t>
            </a: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118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To summarize the information learned about calculations and to assist students make the connection between </a:t>
            </a:r>
            <a:r>
              <a:rPr b="1" i="1" lang="en-US" sz="1200" spc="-1" strike="noStrike">
                <a:solidFill>
                  <a:srgbClr val="073e87"/>
                </a:solidFill>
                <a:latin typeface="Candara"/>
              </a:rPr>
              <a:t>macroscopic</a:t>
            </a: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 and </a:t>
            </a:r>
            <a:r>
              <a:rPr b="1" i="1" lang="en-US" sz="1200" spc="-1" strike="noStrike">
                <a:solidFill>
                  <a:srgbClr val="073e87"/>
                </a:solidFill>
                <a:latin typeface="Candara"/>
              </a:rPr>
              <a:t>microscopic </a:t>
            </a: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levels of reactions have them develop a table similar to the following using the previous reaction or they can use another reaction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The materials they will have available to demonstrate and teach their learning to the class about their tables 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jellybeans of 3 different colours (one for each element; to represent particles in the reactio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mini ‘mole’ animal toys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scales; and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atoms from molecular kits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They can then present their tables to the class to explain the relationship between number of 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Moles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Grams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Atoms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Molecules; and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Particles … in the reactio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648320" y="1600200"/>
          <a:ext cx="3632040" cy="4997160"/>
        </p:xfrm>
        <a:graphic>
          <a:graphicData uri="http://schemas.openxmlformats.org/drawingml/2006/table">
            <a:tbl>
              <a:tblPr/>
              <a:tblGrid>
                <a:gridCol w="1212840"/>
                <a:gridCol w="1209600"/>
                <a:gridCol w="12096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Candara"/>
                        </a:rPr>
                        <a:t>2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(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 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ndara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(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 N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ndara"/>
                        </a:rPr>
                        <a:t>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(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1 m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3 m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2 m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3.75 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0.79 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4.53 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0.13 m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0.39 m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0.26 m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2 nitrogen at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6 hydrogen at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2 nitrogen atoms &amp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6 hydrogen at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1 molecu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3 molecu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2 molecu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7.86 x 10</a:t>
                      </a:r>
                      <a:r>
                        <a:rPr b="0" lang="en-US" sz="1200" spc="-1" strike="noStrike" baseline="30000">
                          <a:solidFill>
                            <a:srgbClr val="073e87"/>
                          </a:solidFill>
                          <a:latin typeface="Candara"/>
                        </a:rPr>
                        <a:t>22 </a:t>
                      </a: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partic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2.35 x 10</a:t>
                      </a:r>
                      <a:r>
                        <a:rPr b="0" lang="en-US" sz="1200" spc="-1" strike="noStrike" baseline="30000">
                          <a:solidFill>
                            <a:srgbClr val="073e87"/>
                          </a:solidFill>
                          <a:latin typeface="Candara"/>
                        </a:rPr>
                        <a:t>23 </a:t>
                      </a: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partic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1.60 x 10</a:t>
                      </a:r>
                      <a:r>
                        <a:rPr b="0" lang="en-US" sz="1200" spc="-1" strike="noStrike" baseline="30000">
                          <a:solidFill>
                            <a:srgbClr val="073e87"/>
                          </a:solidFill>
                          <a:latin typeface="Candara"/>
                        </a:rPr>
                        <a:t>23 </a:t>
                      </a: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partic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334120" y="2743200"/>
            <a:ext cx="304560" cy="2286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5867280" y="2743200"/>
            <a:ext cx="381240" cy="2858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6172200" y="2743200"/>
            <a:ext cx="380880" cy="2858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6553080" y="2743200"/>
            <a:ext cx="381240" cy="2858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7086600" y="2743200"/>
            <a:ext cx="380880" cy="2858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>
            <a:off x="7543800" y="2666880"/>
            <a:ext cx="3808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871560" y="1752120"/>
            <a:ext cx="7408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3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Take up homework problems on Using Molar masses in Stoichiometric Problems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4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Handouts, Mole Ratio, Review definitions and concepts by preparing Concept Map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5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Using GIZMOs© computer program to Solve Stoichiometric Problems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6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Peer Activity ‘Developing Flowcharts to Solve Problems’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7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Quiz - ‘Definitions in Stoichiometry’ and Calculations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7 &amp; 8: </a:t>
            </a:r>
            <a:r>
              <a:rPr b="1" lang="en-CA" sz="1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Introduce ‘Actual &amp;Theoretical Yield - Limiting Reactant’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Candara"/>
              </a:rPr>
              <a:t>Lesson 9: 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Lab - Reaction between aqueous copper (II) sulfate and iron. (see the File ‘Stoichiometry Lab’).   Students will conduct lab to determine the amount of product produced and the percent yield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10: 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Using Molar Volumes In Stoichiometric Problems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11: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i)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Unit Review (Groups prepare a Concept Attainment Chart on ‘Stoichiometry’) and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                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ii) S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tart Culminating Task: Stoichiometric Applications in Industry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andara"/>
              </a:rPr>
              <a:t>Additional Lessons Within the Unit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tudent Difficulties &amp; Assessment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71560" y="1676520"/>
            <a:ext cx="7408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e87"/>
                </a:solidFill>
                <a:latin typeface="Candara"/>
              </a:rPr>
              <a:t>Difficulties</a:t>
            </a: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 (see summary handout for potential solutions the teacher can use)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A) </a:t>
            </a: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Due to the multi-step calculations required to solve mole-to-mass conversion word problems students may experience difficulty organizing their information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B) Students believe </a:t>
            </a: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the coefficients in the balanced equation relate the masses of the substances.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C) </a:t>
            </a: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Students believe that c</a:t>
            </a: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hanging the coefficient for a substance changes the molar mass.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D) The chemical vocabulary associated with these operations may prevent the students from applying their mathematical skills to chemical phenomena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e87"/>
                </a:solidFill>
                <a:latin typeface="Candara"/>
              </a:rPr>
              <a:t>Assessment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Diagnostic Assessment: pre-unit quiz, Hamburger Sandwiches problem, and ammonia reaction problem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Formative </a:t>
            </a: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Assessment: Homework, Gizmos work, Concept Attainment Strategy and class participation, Lab Report results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Summative Assessment: Unit test, quiz, Culminating Task</a:t>
            </a:r>
            <a:r>
              <a:rPr b="0" lang="en-CA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Expectations Addressed from the </a:t>
            </a:r>
            <a:r>
              <a:rPr b="1" lang="en-CA" sz="1400" spc="-1" strike="noStrike">
                <a:solidFill>
                  <a:srgbClr val="000000"/>
                </a:solidFill>
                <a:latin typeface="Candara"/>
              </a:rPr>
              <a:t>‘Quantities in Chemical Reactions’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 Strand of Grade 11 Chemistry – University Preparation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D2.5 Calculate the corresponding mass, or quantity in moles or molecules, for any given reactant or product in a balanced chemical equation as well as for any other reactant or product in the chemical reaction [AI]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D3.4 Explain the quantitative relationships expressed in a balanced chemical equation, using appropriate units of measure (e.g., moles, grams, atoms, ions, molecules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andara"/>
              </a:rPr>
              <a:t>Key concept students will learn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: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The coefficients of a chemical equation are the basis for interpreting and predicting quantitative relationships in chemical reactions (stoichiometry).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andara"/>
              </a:rPr>
              <a:t>By the end of the unit students should be able to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i)  Determine the amount of any substance in a reaction, given the amount of any other substance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ii) Determine the mass of any substance in a reaction, given the amount or mass of any other substance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ndara"/>
              </a:rPr>
              <a:t>Expectations &amp; Key Concept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Background Informatio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73e87"/>
                </a:solidFill>
                <a:latin typeface="Candara"/>
              </a:rPr>
              <a:t>The </a:t>
            </a:r>
            <a:r>
              <a:rPr b="1" lang="en-CA" sz="1600" spc="-1" strike="noStrike">
                <a:solidFill>
                  <a:srgbClr val="073e87"/>
                </a:solidFill>
                <a:latin typeface="Candara"/>
              </a:rPr>
              <a:t>mole concept is introduced and used in stoichiometric calculations</a:t>
            </a:r>
            <a:r>
              <a:rPr b="0" lang="en-CA" sz="1600" spc="-1" strike="noStrike">
                <a:solidFill>
                  <a:srgbClr val="073e87"/>
                </a:solidFill>
                <a:latin typeface="Candara"/>
              </a:rPr>
              <a:t>.  Students learn to convert the mass of a substance to the number of particles and the number of moles of the substance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73e87"/>
                </a:solidFill>
                <a:latin typeface="Candara"/>
              </a:rPr>
              <a:t>The mole concept is the link that </a:t>
            </a:r>
            <a:r>
              <a:rPr b="0" i="1" lang="en-CA" sz="1600" spc="-1" strike="noStrike">
                <a:solidFill>
                  <a:srgbClr val="073e87"/>
                </a:solidFill>
                <a:latin typeface="Candara"/>
              </a:rPr>
              <a:t>relates the macroscopic measurement of mass or volume with the submicroscopic number of particles</a:t>
            </a:r>
            <a:r>
              <a:rPr b="0" lang="en-CA" sz="16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ndara"/>
              </a:rPr>
              <a:t>The following is an </a:t>
            </a:r>
            <a:r>
              <a:rPr b="1" lang="en-CA" sz="1600" spc="-1" strike="noStrike">
                <a:solidFill>
                  <a:srgbClr val="000000"/>
                </a:solidFill>
                <a:latin typeface="Candara"/>
              </a:rPr>
              <a:t>overview of the lesson sequences</a:t>
            </a:r>
            <a:r>
              <a:rPr b="0" lang="en-CA" sz="1600" spc="-1" strike="noStrike">
                <a:solidFill>
                  <a:srgbClr val="000000"/>
                </a:solidFill>
                <a:latin typeface="Candara"/>
              </a:rPr>
              <a:t> for the unit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ndara"/>
              </a:rPr>
              <a:t>The focus of this presentation will be on Lessons 2- 4</a:t>
            </a:r>
            <a:r>
              <a:rPr b="0" lang="en-CA" sz="1600" spc="-1" strike="noStrike">
                <a:solidFill>
                  <a:srgbClr val="073e87"/>
                </a:solidFill>
                <a:latin typeface="Candara"/>
              </a:rPr>
              <a:t>.  It will be presented in depth since this lesson represents the expectations to be addressed (D 2.5 and D 3.4) and concepts to be learned</a:t>
            </a:r>
            <a:r>
              <a:rPr b="0" lang="en-CA" sz="1600" spc="-1" strike="noStrike">
                <a:solidFill>
                  <a:srgbClr val="000000"/>
                </a:solidFill>
                <a:latin typeface="Candara"/>
              </a:rPr>
              <a:t>.  The lab, Gizmos lab work period, and Peer Activity ‘Developing Flowcharts to Solve Problems’ also address these expectations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0" name="Picture 2" descr="C:\Profiles\ICW087-PAF.ICICLE.062\Local Settings\Temporary Internet Files\Content.IE5\5Z9UOFNT\MC900264260[1].wmf"/>
          <p:cNvPicPr/>
          <p:nvPr/>
        </p:nvPicPr>
        <p:blipFill>
          <a:blip r:embed="rId1"/>
          <a:stretch/>
        </p:blipFill>
        <p:spPr>
          <a:xfrm>
            <a:off x="5334120" y="1546200"/>
            <a:ext cx="919080" cy="6159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C:\Profiles\ICW087-PAF.ICICLE.062\Local Settings\Temporary Internet Files\Content.IE5\5Z9UOFNT\MC900439407[1].jpg"/>
          <p:cNvPicPr/>
          <p:nvPr/>
        </p:nvPicPr>
        <p:blipFill>
          <a:blip r:embed="rId2"/>
          <a:stretch/>
        </p:blipFill>
        <p:spPr>
          <a:xfrm>
            <a:off x="7010280" y="1219320"/>
            <a:ext cx="134964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Hook : </a:t>
            </a:r>
            <a:r>
              <a:rPr b="0" lang="en-CA" sz="3600" spc="-1" strike="noStrike">
                <a:solidFill>
                  <a:srgbClr val="ffffff"/>
                </a:solidFill>
                <a:latin typeface="Candara"/>
              </a:rPr>
              <a:t>‘Hamburger Sandwiches’ Problem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Introduce the ‘Hamburger Sandwiches’ problem as an Investigation for students to solve without teacher assistance.  This problem links their understanding of balanced equations, masses of reactants and products</a:t>
            </a: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 and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to the concept of converting moles to mass in chemical equations.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Lesson courtesy of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Journal of Chemical Education Vol. 80 No. 9 September 2003 - see pdf file attached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073e87"/>
                </a:solidFill>
                <a:uFillTx/>
                <a:latin typeface="Candara"/>
              </a:rPr>
              <a:t>‘</a:t>
            </a:r>
            <a:r>
              <a:rPr b="0" lang="en-CA" sz="1400" spc="-1" strike="noStrike" u="sng">
                <a:solidFill>
                  <a:srgbClr val="073e87"/>
                </a:solidFill>
                <a:uFillTx/>
                <a:latin typeface="Candara"/>
              </a:rPr>
              <a:t>Hamburger Sandwiches’ Problem                        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71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Activity 1: Understanding Formulas and the Use of Equations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The principal has organized a school meeting and you are charged with ordering lunch from a hamburger chain called Burger Chem that makes sandwiches using two or three identical slices of bread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You ordered 100 MacChem sandwiches, but somebody made a mistake and 100 HambChem and 100 CheeseChem were delivered instead. You need to convert these other types of sandwiches into 100 MacChem before the principal notices the error.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Q: How many HambChem and CheeseChem do you need to obtain 100 MacChem sandwiches if compositions are: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- HambChem: 2 slices of bread (B) and 2 hamburgers (H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- CheeseChem: 2 slices of bread and 2 slices of cheese (Ch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- MacChem: 3 slices of bread, 2 hamburgers, and 1 slice of cheese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Activity 2: Understanding Mass Conservatio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Q: What is the mass of 100 MacChem sandwiches? Is there any relationship between the mass of 100 MacChem sandwiches and the masses of 100 HambChem plus 50 CheeseChem?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Data: mass of each slice of bread (B), 25 g; mass of each hamburger (H), 80 g; mass of each cheese slice (Ch), 15 g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4" name="Picture 2" descr="C:\Profiles\ICW087-PAF.ICICLE.062\Local Settings\Temporary Internet Files\Content.IE5\5Z9UOFNT\MC900264260[1].wmf"/>
          <p:cNvPicPr/>
          <p:nvPr/>
        </p:nvPicPr>
        <p:blipFill>
          <a:blip r:embed="rId1"/>
          <a:stretch/>
        </p:blipFill>
        <p:spPr>
          <a:xfrm>
            <a:off x="7315200" y="2590920"/>
            <a:ext cx="9190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Student Exploration to Discover How to Use</a:t>
            </a:r>
            <a:r>
              <a:rPr b="0" lang="en-CA" sz="3600" spc="-1" strike="noStrike">
                <a:solidFill>
                  <a:srgbClr val="000000"/>
                </a:solidFill>
                <a:latin typeface="Candara"/>
              </a:rPr>
              <a:t> Molar Masses in Stoichiometric Problems</a:t>
            </a:r>
            <a:r>
              <a:rPr b="0" lang="en-CA" sz="36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Following the ‘Hamburger Sandwiches’ problem, the teacher can allow the students to work in groups on the following problem to observe their problem solving skills (diagnostic assessment)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If 3.75 grams of 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nitrogen gas are used in the following reaction, are 3 x 3.75 grams of hydrogen gas required for the reaction to occur completely?  Why or Why not?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N</a:t>
            </a:r>
            <a:r>
              <a:rPr b="0" lang="en-CA" sz="1400" spc="-1" strike="noStrike" baseline="-25000">
                <a:solidFill>
                  <a:srgbClr val="000000"/>
                </a:solidFill>
                <a:latin typeface="Candara"/>
              </a:rPr>
              <a:t>2 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(g)    +    3 H</a:t>
            </a:r>
            <a:r>
              <a:rPr b="0" lang="en-CA" sz="14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 (g) →   2 NH</a:t>
            </a:r>
            <a:r>
              <a:rPr b="0" lang="en-CA" sz="1400" spc="-1" strike="noStrike" baseline="-25000">
                <a:solidFill>
                  <a:srgbClr val="000000"/>
                </a:solidFill>
                <a:latin typeface="Candara"/>
              </a:rPr>
              <a:t>3 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(g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The teacher can provide the following hints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Convert the macroscopic information / numbers (large-scale) to the microscopic numbers (small-scale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“</a:t>
            </a: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You need to use the molar mass of a compound (microscopic) to find its actual / real (macroscopic) mass”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209320"/>
            <a:ext cx="74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Depending on student success and progress with the previous problem, the teacher can  present the following steps to help students organize their solution process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andara"/>
              </a:rPr>
              <a:t>Four steps required to solve stoichiometric problems (Algorithm)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1. Write the balanced equation for the reaction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  </a:t>
            </a:r>
            <a:br>
              <a:rPr sz="1300"/>
            </a:b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2. Convert the given mass or volume of a reactant or product to moles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3. Use the coefficients in the balanced equation to set up the appropriate mole ratio and multiply to     calculate moles of the desired reactant or product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4. Convert moles of the desired reactant or product to mass or volume required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73e87"/>
                </a:solidFill>
                <a:latin typeface="Candara"/>
              </a:rPr>
              <a:t>OR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Alternatively students could use the GRASS / GRASP (Given, Required, Analysis, Solution,   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Sentence /Phrase) method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andara"/>
              </a:rPr>
              <a:t>Providing Algorithms to Assist with Problem Solving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2" descr="C:\Profiles\ICW087-PAF.ICICLE.062\Local Settings\Temporary Internet Files\Content.IE5\NDCBJD59\MP900411803[1].jpg"/>
          <p:cNvPicPr/>
          <p:nvPr/>
        </p:nvPicPr>
        <p:blipFill>
          <a:blip r:embed="rId1"/>
          <a:stretch/>
        </p:blipFill>
        <p:spPr>
          <a:xfrm>
            <a:off x="7467480" y="2514600"/>
            <a:ext cx="1247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71560" y="1981080"/>
            <a:ext cx="7408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 u="sng">
                <a:solidFill>
                  <a:srgbClr val="000000"/>
                </a:solidFill>
                <a:uFillTx/>
                <a:latin typeface="Candara"/>
              </a:rPr>
              <a:t>Topic 1: Predicting the Mass of a Reactant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The students and teacher will now conduct formal ‘scientific’ calculations using the following reaction. 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Q: Calculate the mass of the second reactant in the reaction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  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                               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N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g)    +    3 H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(g) →   2 NH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3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g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Problem: How many grams of hydrogen gas are required for 3.75 grams of nitrogen gas to react completely?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olution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Using the Four Steps process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1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The equation is balanced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2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Convert the given mass or volume of a reactant or product to moles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Calculate the number of moles of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nitrogen gas in 3.75 grams of nitrogen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The atomic mass of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nitrogen is 14.007 u.  There are 2 nitrogen atoms, therefore 28.014 u = 28.014 g / mol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Set up a ratio to calculate the number of moles in 3.75 g of nitrogen:               </a:t>
            </a:r>
            <a:r>
              <a:rPr b="0" lang="en-CA" sz="1200" spc="-1" strike="noStrike" u="sng">
                <a:solidFill>
                  <a:srgbClr val="073e87"/>
                </a:solidFill>
                <a:uFillTx/>
                <a:latin typeface="Candara"/>
              </a:rPr>
              <a:t>28.014 g 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      =  </a:t>
            </a:r>
            <a:r>
              <a:rPr b="0" lang="en-CA" sz="1200" spc="-1" strike="noStrike" u="sng">
                <a:solidFill>
                  <a:srgbClr val="073e87"/>
                </a:solidFill>
                <a:uFillTx/>
                <a:latin typeface="Candara"/>
              </a:rPr>
              <a:t>3.75 g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                                       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1 mol                        x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                                  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x = 0.13 moles of nitroge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andara"/>
              </a:rPr>
              <a:t>Lesson 2: </a:t>
            </a:r>
            <a:r>
              <a:rPr b="0" lang="en-CA" sz="3600" spc="-1" strike="noStrike">
                <a:solidFill>
                  <a:srgbClr val="073e87"/>
                </a:solidFill>
                <a:latin typeface="Candara"/>
              </a:rPr>
              <a:t>Using Molar Masses in Stoichiometric Problems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1981080"/>
            <a:ext cx="7408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3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Use the coefficients in the balanced equation to set up the appropriate mole ratio and multiply to calculate moles of the desired reactant or product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1 mole of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N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g)  reacts with 3 moles of H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(g)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So the number of moles of hydrogen required = 0.13 x 3 = 0.39 moles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4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Convert moles of the desired reactant or product to mass or volume required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Molar mass of hydrogen = 2 x 1.008 u = 2.016 u = 2.016 g / mol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Set up a ratio to calculate the mass of hydrogen in 0.39 moles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73e87"/>
                </a:solidFill>
                <a:uFillTx/>
                <a:latin typeface="Candara"/>
              </a:rPr>
              <a:t>2.016 g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=    </a:t>
            </a:r>
            <a:r>
              <a:rPr b="0" lang="en-CA" sz="1200" spc="-1" strike="noStrike" u="sng">
                <a:solidFill>
                  <a:srgbClr val="073e87"/>
                </a:solidFill>
                <a:uFillTx/>
                <a:latin typeface="Candara"/>
              </a:rPr>
              <a:t>x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1 mol              0.39 mol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X = 0.79 g of hydroge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Concluding statement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3.75 g of nitrogen requires 0.79 g of hydrogen to react completely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andara"/>
              </a:rPr>
              <a:t>Lesson 2: </a:t>
            </a:r>
            <a:r>
              <a:rPr b="0" lang="en-CA" sz="3600" spc="-1" strike="noStrike">
                <a:solidFill>
                  <a:srgbClr val="073e87"/>
                </a:solidFill>
                <a:latin typeface="Candara"/>
              </a:rPr>
              <a:t>Using Molar Masses in Stoichiometric Problems cont’d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71560" y="1828440"/>
            <a:ext cx="7408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073e87"/>
                </a:solidFill>
                <a:uFillTx/>
                <a:latin typeface="Candara"/>
              </a:rPr>
              <a:t>Topic 2: Predicting the Mass of a Produc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The students and teacher will attempt to calculate the mass of the product given questions such as...   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                               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N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g)    +    3 H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(g) →   2 NH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3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g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Problem: What mass of ammonia is formed when 3.75 g of nitrogen gas reacts with hydrogen gas?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olution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Using the Four Steps process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1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The equation is balanced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2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Convert the given mass or volume of a reactant or product to moles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Earlier we calculated that 3.75 grams of nitrogen contain 0.133 moles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andara"/>
              </a:rPr>
              <a:t>Lesson 2: </a:t>
            </a:r>
            <a:r>
              <a:rPr b="0" lang="en-CA" sz="3600" spc="-1" strike="noStrike">
                <a:solidFill>
                  <a:srgbClr val="073e87"/>
                </a:solidFill>
                <a:latin typeface="Candara"/>
              </a:rPr>
              <a:t>Using Molar Masses in Stoichiometric Problems cont’d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2:42:54Z</dcterms:created>
  <dc:creator>user</dc:creator>
  <dc:description/>
  <dc:language>en-US</dc:language>
  <cp:lastModifiedBy>user</cp:lastModifiedBy>
  <dcterms:modified xsi:type="dcterms:W3CDTF">2011-11-09T17:06:50Z</dcterms:modified>
  <cp:revision>29</cp:revision>
  <dc:subject/>
  <dc:title>Stoichiometry</dc:title>
</cp:coreProperties>
</file>